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42A0939A-157A-4C4A-8DCC-411DEAE75071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и обеспечение доступа к нему внешних пользователей способствует укреплению деловых связей с заказчиками, партнерами, поставщиками и повышает качество обслуживания заказчиков и партнеров за счет предоставления им дополнительных возможностей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7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утренних пользователей (руководителей и сотрудников предприятия) на основе корпоративного информационного портала может быть реализована следующая функциона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библиотека технико-экономической, технологической, договорной или юридической докум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подачи заявок (например, на расходные материалы, автотранспорт, и т.п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очник контактных реквизитов сотрудников пред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отека существующих и потенциальных контраг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 сотрудников, выполнение календарных планов и графиков прое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технической поддержки пользователей компьютеров и оргтехник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новостные сервисы с персонифицированной доставкой и системой оповещения получателей (например, 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ешних посетителей портала (поставщиков, партнеров и заказчиков) могут быть созданы механизмы, включающие себя информирование о ценах, продуктах, складских запасах, доставке и процессе выполнения заказов, а также решения типа "торговой площадки". Эти решения позволяют наладить совместное планирование и прогнозирование, скоординированное производство и управление дистрибуцией. Таким образом, корпоративный портал обеспечивает интеграцию традиционных учетных систем с приложениями для управления отношениями с клиентами (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условно, это далеко не полный перечень функциональных возможностей, которые могут быть реализованы в рамках корпоративного портала. Следует подчеркнуть, что развитие портала представляет собой динамический процесс, который неразрывно связан с процессом формализации информационных потоков предприятия. Соответственно, отдача от информационного портала будет увеличиваться по мере роста его функционального на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одсчетам аналитиков, на сегодняшний день инструменты для построения порталов выпускают уже более 200 компаний, причем с каждым днем предложений становится все больше и бол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шлом году свои новые инициативы в этой области анонсировали такие гиганты рынка прикладного программного обеспечения как SAP, IBM и Microsoft. Они намерены составить конкуренцию компаниям Plumtree Software, DataChannel, Hummingbird и Epicentric, в значительной степени посвятившим себя разработке программного обеспечения для пор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енно, существует целый спектр продуктов — от готовых к работе инструментов до конфигурируемых решений, которые для обеспечения интеграции требуют серьезной настрой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рпоративного порта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рьезный и довольно затратный проект. Стоимость вышеназванных портальных решений в среднем составляет от 100 до 500 долларов за одно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зарубежным данным,  на приобретение программного обеспечения небольшому предприятию придется затратить окол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00 долларов, средне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 500 000 до 1 миллиона долларов. Дополнительные затраты на сооружение порталов, согласно результатам опросов, составляют 100-300% от стоимости программного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рынок портальных проектов сейчас находится в стадии формирования. Положительных и отрицательных примеров, на которые могли бы ориентироваться заказчики, пока совсем немного. Столь скромная практика отчасти объясняется невысоким уровнем автоматизации большинства российских компаний, которые еще не завершили первый «виток», связанный с построе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и хранилищ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этой причине важно заранее определить базовые принцип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и и проанализировать возможные технологически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и внедрение корпоративного портала практически всегда сопряжено с рядом типовых проблем, обусловленных существующей на предприятии информационной сред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 организации нескольких операционных систем вызывает необходимость проведения кросс-платформенной интег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ые и "унаследованные" базы данных, построенные на базе архитектуры файлового сервера, не всегда могут быть интегрированы в пор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 и (или) документированных API-интерфейсов, что затрудняет их интегр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настоящему моменту де-факто сложились следующие базовые принципы интеграции корпоративных данных и приложений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уализация информации при помощи Web-браузера, благодаря чему исчезает необходимость в установке и поддержке "тяжелых" клиентских при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уемость, переносимость и открытость создаваемых решений, которые достигаются благодаря использованию XML/XSL и Java. Хранение и передача данных происходит с помощью языка XML, специально созданного для организации взаимодействия с различными приложениями. Формат данных в XML не зависит от способа его дальнейшей визуализации. За это отвечают хранимые отдельно файлы таблицы стилей XSL, которые преобразуют файлы XML для их представления в виде Web-стра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входа в портал из различных систем, в том числе территориально удал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ь и защита информации посредством централизованного доступа и разделе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ликон П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в качестве технологической платформы для разработки приклад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й свой новый продук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lic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собой инструментальную прослойку, которая объединяет известные Internet-технологии в единую цепочку на основе использования открытых стандартов. Предлагаемый продукт ориентирован на Заказчиков, заинтересованных в интеграции данных и приложений на основе совреме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й. Его применение позволяет повысить оперативность управления предприятием при сохранении надежности и конфиденциальности, присущих традиционным решениям на основе СУБ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62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технолог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ет следующие 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нтеграции данных и приложений независимо от размещения и форматов хранения информации. При этом в качестве источников данных, помимо базы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огут использоваться другие локальные базы данных, удаленные оперативные источники XML-данных и неоперативные источники данных в виде XML-фай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еская сбор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ц путем интерпретации гетерогенных данных. Эти данные могут представлять собой статический HTML-документ, шаблон на языке XML (содержащий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прос к базе данных), документ XS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шаблоном преобразования, программный код на языке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ли поток байтов (который может интерпретироваться, как рисунок, звук, мультимеди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ная интеграция с инструментарием 39-й версии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позволяет эффективно применять имеющиеся в системе механизмы разработки ресурсов, администрирования прав пользователей и аудита событий в баз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и и защита информации за счет эффективного управления потоком соединений и использования механизмов администрирова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формационный порта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. Портал представляет собой совокупность технологий и программных средств, позволяющих компаниям "расконсервировать" информацию, которая возникает и накапливается как внутри, так и вне их границ. Одновременно, портал предоставляет каждому пользователю персонифицированное "окно" для просмотра всей информации, необходимой ему для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технологической точки зрения портал представляет собой совокуп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. В качестве терминала может быть использовано любое устройство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ом (стационарный или переносной компьютер), подключенное к корпоративной сети либо находящееся далеко за ее пределами. Порталы позволяют организовывать дополнительные сервисы, основанные на доступе к разнородным данным и приложениям с од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чки. При этом пользователь может и не знать, с какими приложениями он работает, где и в каком формате хранятся предоставляемые ему данные и с помощью каких операционных систем они обраба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полной мере отвечает всем вышеназванным принципам и может использоваться в качестве инструментария для построения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рассмотрим систему подачи заявок на расходные материалы, реализованную на основе техноло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качестве источника данных используется база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льзователей, участвующих в формировании и утверждении заявок, реализованы несложные с функциональной точки з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ы. Перечень доступных для заказа расходных материалов формируется на основе информации из справочника ТМЦ. Сформированные заявки хранятся в одноименной таблице БД. Пользователи в статусе руководителей структурных подразделений наделяются доступом к функции утверждения заявок своих сотрудников. При этом права доступа определяются при помощи стандартных механизмов, реализованных в модуле «Администратор». Такой подход не требует инсталляции клиентских компонентов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рабочих местах всех сотрудников предприятия и, соответственно, не требует покупки клиентских лиценз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ели в статусе работников отдела МТО обладают возможностью сформировать сводный заказ на приобретение расходных материалов. При этом они могут использовать хорошо структурированн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чет, реализованный стандартными средствами модуля «Анализа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. Я готов ответить на Ваши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корпоративных порталов в настоящее время является одним из наиболее перспективных направлений в области информационных технологий. Так, аналитики 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Grou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читают, что к 2003 году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результатам опросов руководителе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100 одной из своих первоочередных задач считают создание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обеспечивает компании серьезные конкурентные преимущества. При этом, по оценкам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tre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рма возврата инвестиций от внедрения корпоративного портала в среднем составляет 14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аспекты, определяющие экономические и организационные эффекты от построения портала, перечислены на этом слайде. Рассмотрим 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и сотрудники ежедневно получают информацию из различных источников, таких как корпоративные информационные системы, периодические печатные издания, внутренние нормативные документы, деловая переписка, электронная почта, техническая документация и ресурсы се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корпоративный портал, Вы и Ваши специалисты сможете получать необходимую информацию в предельно сжатые сроки непосредственно со своего рабочего места, независимо от его географического расположения и времени суток. Использование современных технологий позволит организовать целевую доставку информации и своевременное оповещение ее получателей, обеспечив при этом необходимый уровень конфиденци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играет роль центрального информационного ресурса для руководства и сотрудников компании, ее заказчиков, поставщиков, дистрибьюторов, партнеров и акцион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водители  и сотрудн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тегрированную внутреннюю и внешнюю информацию и доступ к корпоративным прило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формацию о выпускаемой компанией продукции, новые инструменты работы с ней. Анализ действий заказчиков при работе с порталом может помочь компании принимать более взвешенные маркетингов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авщ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возможность повысить эффективность взаимодействия с компанией, оптимизировать объемы и время поставок. Таким образом, портал становится инструментом для планирования и прогнозирования расходования запасов и постав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ер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ортала получают инструмент контроля над ключевыми параметрами деятельност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ртн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более эффективный инструмент по обмену информацией. Через портал они имеют доступ к маркетинговой и технической документации, планам выпуска продукци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корпоративного портала позволит в полной мере применить управленческую технологию управления знания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которая во всем мире признана наиболее эффективной формой взаимодействия сотрудников. Любой работник достаточно легко сможет найти и использовать различные отчеты, сводки, статьи, библиографические справочники, новости, методики, регламенты, аналитические обзоры и исследования, вне зависимости от того, где и кем они были созданы. Накопление и сортировка всей этой информации позволит создать и использовать "базу знаний" Вашей компании, охватывающую большую часть корпоратив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корпоративного портала с другими компонентами информационной системы предприятия (финансово-учетные и сбытовые программы, хранилища данных, электронный документооборот и т.п.) открывает новые возможности анализа деловой информации, сегментирования рынка и позиционирования, планирования и прогнозирования, выполнения ряда иных функций. Соответственно, менеджеры Вашей компании смогут принимать более эффективные решения, учитывающие все нюансы конкрет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– это интегрированное приложение, которое можно достаточно быстро внедрить и легко поддерживать, затрачивая при этом сравнительно скромные ресурсы по сравнению с системами со сходными функциями, но построенными на основе других концепций. Все это снижает издержки и повышает отдачу от вложений в информационную систему предприятия. Использование для визуализации информации "тонкого клиента" (обыч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а) позволяет экономить на обучении персонала и, одновременно, дает возможность не устанавливать клиентские приложения на множестве компьютеров. Сокращение затрат на приобретение и обслуживание клиентского ПО и оборудования – один из основных ресурсов снижения издержек при использовании корпоративного портала. Также важно упомянуть о минимизации затрат на аренду Internet-канала за счет того, что наиболее значительная часть информации, необходимой для пользователей портала, размещается в корпоративной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2F4-6A8C-4ABB-8B95-519DB3D7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BCB-5D95-4703-850A-2C8EC762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DA0-AC86-4737-80F9-CA25D623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F07-F42D-4103-B3BB-4C3CD1D9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ECD-C0BD-4A9C-A009-0B120B1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9D49-C5C5-4A19-8B58-8C8E1CFA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E10B-8E02-49F2-B709-C84C459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FB91-033F-4D8A-9236-C5B6B8F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89E-91C4-4BD5-B14B-94A63501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7825-B53F-42A7-97FD-4C4EDE42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697B-705C-4582-884F-ED97049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11C-B729-4F53-A4EA-63DA53BB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433D-1EFC-49B9-BE3B-D9CA61D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D4EE-277B-4EFD-A27D-9200F07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99F8-9158-47FA-8E13-A5F6E081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69DC-8389-4C8C-B36A-2DD20988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7AAE-2CA3-4687-85C9-2616BA59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139-FA33-4B58-9613-A9645901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551-394D-4F97-83FE-DF3A8AF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8CB-D473-4310-8848-90AA7E34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810-6541-4E81-83C2-1D3659A1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5C3-6D15-4FBD-87F7-5B8A90F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97C-8A34-4976-B343-143B5B05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63C-F251-4B6F-AA2F-D4AA795B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FE50-D604-4DBF-AE4B-7798A0CD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9739-A991-4C59-95CA-7771F905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О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ГО ПОРТ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62485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ЕДИНАЯ ПЛАТФОР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ДЛЯ ЭЛЕКТРОННОГО БИЗНЕС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601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предоставление дополнительных усл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лучшение качества 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величение скорости выполнения зак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крепление деловых связей с заказчиками и поставщ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934320" y="1600200"/>
          <a:ext cx="283500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600200"/>
                    <a:ext cx="2835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uturis"/>
              </a:rPr>
              <a:t>ФУНКЦИОНАЛЬНОЕ НАПОЛНЕНИЕ КОРПОРАТИВНОГО ПОРТАЛА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СОТРУДНИКОВ ПРЕДПРИЯТ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орпоративная библиотека финансовой, технологической, договорной, юридическ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истема подачи заявок (на расходные материалы, автотранспорт,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правочник контактных реквизитов сотруднико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артотека существующих и потенциальных контраг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, исполнение календарных планов и графиков проек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лужба технической поддержки пользователей (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Help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Desk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различные новостные сервисы с персонифицированной доставкой (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ВНЕШНИХ ПОСЕТИТЕЛЕЙ </a:t>
            </a:r>
            <a:r>
              <a:rPr b="1" lang="en-US" sz="3000" spc="-1" strike="noStrike">
                <a:solidFill>
                  <a:srgbClr val="ffffff"/>
                </a:solidFill>
                <a:latin typeface="Futuris"/>
              </a:rPr>
              <a:t>ПОСТАВЩИКОВ, ПАРТНЕРОВ И ЗАКАЗЧИКОВ</a:t>
            </a:r>
            <a:endParaRPr b="0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ценах, продуктах и складских запа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истема подачи заявок и резервирования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состоянии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доставке выполненных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рактивные торговые 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2280" y="480024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Futuris"/>
              </a:rPr>
              <a:t>УПРАВЛЕНИЕ ОТНОШЕНИЯМИ С КЛИЕН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Customer Relationship Management </a:t>
            </a: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9448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ИНСТРУМЕНТАРИЙ ДЛЯ СОЗДАНИЯ КОРПОРАТИВНЫХ ПОРТАЛ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orporate Portal (Plumtree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Brio.Portal (Brio Techn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DataChannel Server (Data 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IP (Hummingbi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picentric Foundation Server (Epicen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ySAP Enterprise Portals (S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Oracle9iAS Portal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WebSphere Portal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uturis"/>
              </a:rPr>
              <a:t>РАСХОДЫ НА ПОСТРОЕНИЕ КОРПОРАТИВНОГО ПОРТАЛА</a:t>
            </a:r>
            <a:endParaRPr b="0" lang="en-US" sz="38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1600200"/>
          <a:ext cx="640080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640080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209680" y="5622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о данным Delphi Group, 200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ТИПОВЫЕ ПРОБЛЕМЫ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ОБУСЛОВЛЕННЫЕ СУЩЕСТВУЮЩЕЙ НА ПРЕДПРИЯТИИ ИНФОРМАЦИОННОЙ СРЕДО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ксплуатация нескольких операционных систем вызывает необходимость проведения кросс-платформной инте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старые и унаследованные базы данных, построенные на базе архитектуры файлового сервера, не всегда могут быть интегрированы в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интерфейсов и (или) документированных API-интерфейсов, что затрудняет их интег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uturis"/>
              </a:rPr>
              <a:t>БАЗОВЫЕ ПРИНЦИПЫ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ИНТЕГРАЦИИ КОРПОРАТИВНЫХ ДАННЫХ И ПРИЛОЖЕНИЙ НА ОСНОВЕ </a:t>
            </a: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WEB</a:t>
            </a: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-ТЕХНОЛОГИ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изуализация информации при помощи Web-брау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масштабируемость, переносимость и открытость создаваемых решений, которые достигаются благодаря использованию XML/XSL и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входа в портал из различных систем, в том числе территориально удал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обеспечение безопасности и защиты информации посредством централизованного доступа и разделе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GELIC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APPLICATI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SERVER (GWA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КАК ТЕХНОЛОГИЧЕСКАЯ ПЛАТ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ДЛЯ РАЗРАБО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ПРИКЛАДНЫХ </a:t>
            </a:r>
            <a:r>
              <a:rPr b="1" lang="en-AU" sz="3200" spc="-1" strike="noStrike">
                <a:solidFill>
                  <a:srgbClr val="000000"/>
                </a:solidFill>
                <a:latin typeface="Futuris"/>
              </a:rPr>
              <a:t>INTERNE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uturis"/>
              </a:rPr>
              <a:t>ТЕХНОЛОГИЧЕСКИЕ ПРЕИМУЩЕСТВА </a:t>
            </a: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GWAS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944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интеграции данных и приложений независимо от размещения и форматов хранения информации (локальные базы данных, удаленные оперативные источники XML-данных и неоперативные источники данных в виде XML-фай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динамическая сборка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страниц путем интерпретации гетерогенных данных (статические HTML-документы, шаблоны на языке XML, документы XSLT с шаблоном преобразования, программный код на </a:t>
            </a:r>
            <a:r>
              <a:rPr b="1" lang="en-AU" sz="2000" spc="-1" strike="noStrike">
                <a:solidFill>
                  <a:srgbClr val="000000"/>
                </a:solidFill>
                <a:latin typeface="Futuris"/>
              </a:rPr>
              <a:t>Java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или поток байт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интеграция с инструментарием системы Капитал 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000" spc="-1" strike="noStrike" baseline="30000">
                <a:solidFill>
                  <a:srgbClr val="000000"/>
                </a:solidFill>
                <a:latin typeface="Futuris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вер. 3.0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ффективное управление потоком соединений и использование механизмов администрирова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Корпоративный информационный портал (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nterprise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Information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Portal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–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IP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</a:t>
            </a:r>
            <a:endParaRPr b="0" lang="en-US" sz="2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200400"/>
            <a:ext cx="8420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С технологической точки зрения портал представляет собой совокупность </a:t>
            </a:r>
            <a:r>
              <a:rPr b="1" lang="en-US" sz="2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Шишляев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Виктор Валерьевич</a:t>
            </a:r>
            <a:endParaRPr b="0" lang="en-US" sz="6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Генеральный дире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ЗАО Геликон П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svv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ПЕРСПЕКТИВЫ КОРПОРАТИВНЫХ ПОРТАЛОВ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оценкам компании Meta Group к 2003 г.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результатам опросов руководителей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IT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Top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100 одной из своих первоочередных задач считают создание корпоративного информационного порт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752480"/>
            <a:ext cx="94489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вышение эффективности работы сотруд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Улучшение корпоратив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правление корпоративными зна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процесс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инвестиций в 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Единая платформа для ведения электронного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РЕИМУЩЕСТВА ОТ СОЗДАНИЯ КОРПОРАТИВНОГО ПОРТАЛ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2199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ОВЫШЕНИЕ ЭФФЕКТИВНОСТИ РАБОТЫ СОТРУДНИК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0" y="2133720"/>
          <a:ext cx="20858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133720"/>
                    <a:ext cx="20858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53341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корпоративные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орматив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еловая пере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электронная почта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ехническая докум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сурсы сети </a:t>
            </a:r>
            <a:r>
              <a:rPr b="1" lang="en-AU" sz="2400" spc="-1" strike="noStrike">
                <a:solidFill>
                  <a:srgbClr val="000000"/>
                </a:solidFill>
                <a:latin typeface="Futuri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1981080"/>
            <a:ext cx="609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НИФИЦИРОВАННЫЙ ДОСТ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 ИНФОРМАЦИОННЫМ РЕСУР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601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УЛУЧШЕНИЕ</a:t>
            </a:r>
            <a:br>
              <a:rPr sz="38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РПОРАТИВНОГО ВЗАИМОДЕЙСТВ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038480" y="3276720"/>
          <a:ext cx="221004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76720"/>
                    <a:ext cx="221004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2104200" y="3809880"/>
            <a:ext cx="2006640" cy="2364840"/>
            <a:chOff x="2104200" y="3809880"/>
            <a:chExt cx="2006640" cy="2364840"/>
          </a:xfrm>
        </p:grpSpPr>
        <p:graphicFrame>
          <p:nvGraphicFramePr>
            <p:cNvPr id="130" name=""/>
            <p:cNvGraphicFramePr/>
            <p:nvPr/>
          </p:nvGraphicFramePr>
          <p:xfrm>
            <a:off x="2361960" y="3809880"/>
            <a:ext cx="16808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1960" y="3809880"/>
                      <a:ext cx="1680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2104200" y="5715000"/>
              <a:ext cx="200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акцио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3962520"/>
            <a:ext cx="1959480" cy="2212200"/>
            <a:chOff x="6019920" y="3962520"/>
            <a:chExt cx="1959480" cy="2212200"/>
          </a:xfrm>
        </p:grpSpPr>
        <p:graphicFrame>
          <p:nvGraphicFramePr>
            <p:cNvPr id="134" name=""/>
            <p:cNvGraphicFramePr/>
            <p:nvPr/>
          </p:nvGraphicFramePr>
          <p:xfrm>
            <a:off x="6019920" y="3962520"/>
            <a:ext cx="1904760" cy="186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3962520"/>
                      <a:ext cx="190476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219720" y="57150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арт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0280" y="1981080"/>
            <a:ext cx="2198520" cy="2745720"/>
            <a:chOff x="7550280" y="1981080"/>
            <a:chExt cx="2198520" cy="2745720"/>
          </a:xfrm>
        </p:grpSpPr>
        <p:graphicFrame>
          <p:nvGraphicFramePr>
            <p:cNvPr id="138" name=""/>
            <p:cNvGraphicFramePr/>
            <p:nvPr/>
          </p:nvGraphicFramePr>
          <p:xfrm>
            <a:off x="8076960" y="1981080"/>
            <a:ext cx="936360" cy="2400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6960" y="1981080"/>
                      <a:ext cx="93636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7550280" y="426708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оставщ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62920" y="1219320"/>
            <a:ext cx="4509000" cy="2059920"/>
            <a:chOff x="2662920" y="1219320"/>
            <a:chExt cx="4509000" cy="2059920"/>
          </a:xfrm>
        </p:grpSpPr>
        <p:graphicFrame>
          <p:nvGraphicFramePr>
            <p:cNvPr id="142" name=""/>
            <p:cNvGraphicFramePr/>
            <p:nvPr/>
          </p:nvGraphicFramePr>
          <p:xfrm>
            <a:off x="3733920" y="1219320"/>
            <a:ext cx="2514600" cy="1581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33920" y="1219320"/>
                      <a:ext cx="251460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2662920" y="2819520"/>
              <a:ext cx="45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руководство и сотрудн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880" y="1752480"/>
            <a:ext cx="1795680" cy="3340080"/>
            <a:chOff x="380880" y="1752480"/>
            <a:chExt cx="1795680" cy="3340080"/>
          </a:xfrm>
        </p:grpSpPr>
        <p:graphicFrame>
          <p:nvGraphicFramePr>
            <p:cNvPr id="146" name=""/>
            <p:cNvGraphicFramePr/>
            <p:nvPr/>
          </p:nvGraphicFramePr>
          <p:xfrm>
            <a:off x="1066680" y="1752480"/>
            <a:ext cx="754200" cy="2590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66680" y="1752480"/>
                      <a:ext cx="7542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80880" y="4267080"/>
              <a:ext cx="179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заказч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8581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УПРАВЛЕНИЕ</a:t>
            </a:r>
            <a:r>
              <a:rPr b="1" lang="en-US" sz="4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КОРПОРАТИВНЫМИ ЗНАНИЯМИ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64958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библиографические справ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налитические об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48720" y="1600200"/>
          <a:ext cx="15112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600200"/>
                    <a:ext cx="15112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16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ТЕХНОЛОГИЯ УПРАВЛЕНИЯ ЗН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Knowledge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Management 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ОПТИМИЗАЦ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ПРОЦЕССА УПРАВЛЕНИЯ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ГРАЦИЯ ПОРТАЛА С ДРУГ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МПОНЕНТАМИ ИС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финансово-учетными систе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бытов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хранилищам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истемами электронного документооб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153280" y="1600200"/>
          <a:ext cx="1154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600200"/>
                    <a:ext cx="1154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765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КРЫВАЕТ НОВЫЕ ВОЗМОЖНОСТИ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анализа дел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егментирования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озиционирования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рогнозирования и планирова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95252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ОПТИМИЗАЦИЯ ИНВЕСТИЦИ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В ИНФОРМАЦИОННЫЕ РЕСУРСЫ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клиентских лиценз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снижение требований к рабочим стан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обучении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повышение информацион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централизованное администрирование рабочих 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определение востребованности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934320" y="1752480"/>
          <a:ext cx="25146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752480"/>
                    <a:ext cx="25146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6248520"/>
          <a:ext cx="28195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1T16:20:33Z</cp:lastPrinted>
  <dcterms:modified xsi:type="dcterms:W3CDTF">2002-12-10T14:52:36Z</dcterms:modified>
  <cp:revision>309</cp:revision>
  <dc:subject/>
  <dc:title>ОСНОВНЫЕ НАПРАВЛЕНИЯ ДЕЯТЕЛЬНОСТИ АО ГЕЛИКОН ПРО</dc:title>
</cp:coreProperties>
</file>